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E93-02DD-415A-9D7B-17932380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BB5-2FF8-4900-9D8B-6B4A44A9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B1021-CEB2-4920-B3D6-C76CF87D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D012A-CFE3-4C59-9E00-EB753114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2C8B4-4F1E-44D7-A07E-63BDD6A5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9419A-3642-44EC-A18C-B6138CD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8DA96-6A7B-4C0F-895D-F71F0A00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646EE-C18C-4F0A-BECF-D47E5C9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C854B-FD00-42B5-A2DE-CFFB48D2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F358B-A93C-41F2-BEEF-D9621CEE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B3901-713B-4132-BF3F-73D0D9F5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DB614-3D84-4A75-BF40-5E46622D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B51-D775-4101-A481-37DAABA2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0623B-55A4-479E-A876-D555787E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46B49-CBDD-40EF-BEEB-88313DD2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5171D-D761-4D3B-8BAD-07B01063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E1677-A17E-44DB-B358-CFE5DA16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C4C06-3BE2-4D62-A239-B9875AB8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89118-0753-4EF1-8DA0-A114D3F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417D4-FC3B-4090-958B-527A969B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9985C-C21C-4A43-830E-86FCFBDF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B55FE-047E-43D0-A32D-675C95CD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FFB91-D5BB-43EB-9BC0-FF27459A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21D-E5AD-4DE5-BC2C-F910FF0E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EE514-2C3D-421C-A84E-B9E0E63A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0705E-1773-4CCC-AF1F-E8FBA23B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7D3F9-6740-4391-935A-CF98B84D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56919-A3D9-403A-9C81-59B0E4F6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F2544-7014-4909-80A1-D03738DF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E7AAC-A2D5-47AF-8CF5-EEE4F1DA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086BF-AC79-4759-BCE0-5BA9333E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A5EC3-AE0A-4A4B-85B7-BAF46778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595CB-F204-49F7-AF19-3323C334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2E65F-B1B0-4C90-BF11-4AA67F65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B55A-088B-4B8A-8B84-D29AB674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782B3-B5FC-425C-9F84-F95892F0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BE215-FB08-4139-9032-E340792D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8D8A3-F92B-4849-B7DA-B159B1DD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440BC-8887-4286-969D-BE73454D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A85CE-109C-4114-894B-EC13EE0E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C1948-6222-412A-8C71-DE9BB0FA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0E16C-39DC-4AFD-9DA0-0621C5CB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2FFF8-DDE2-4CE7-9157-47C23731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FB327-849B-4B57-9CA7-2023014C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BF8F0-5CA7-49C3-8C79-6A88702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98C0-0A14-47FB-B25B-AE1E32E9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DEF0D-23F4-4C34-B88B-178623B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A9553-DC53-4943-813A-DE67403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0EF61-3ED9-48AF-A528-CFFC97A0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0101C-FA99-40F7-B0B0-BDDB6DFD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FF380-88BF-4D59-BB06-4BCD7C7B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C6304-641A-4214-86ED-0B409217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9B890-A9D6-4E41-83B9-C9FEC799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24DB5-0BC5-4F22-9A84-D8810DAC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B7883-EC41-439F-ACF1-CD1F041A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8894F-77D1-4780-BEC3-F904892A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6DC0-0A5C-4FF7-9E74-2A0B83F7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126D1-DB66-48DD-A320-11E9DAFE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CF183-CE49-4B2C-98BC-80979453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398DC-9224-4A6C-9631-9F1F3FB6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94243-957E-43F6-A82A-E0AF6E68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2B00E-0ED3-4476-A676-586C8FA9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6BD30-2A7D-4ADA-8FF4-77DA0FBD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2A40B-2825-452A-B749-3DBA4182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FAD20-01FF-4CC8-AEB5-44A83AB7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F05C4-CADE-448E-B1DE-C3F9B481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DC3B8-7820-47CE-B45E-B9419CA0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45C9-DEAB-441D-88C0-9F6ED639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961AF-6D4B-4B6E-B81B-D6628448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2A3B8-0334-409A-AE77-B2946EB8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D3CE8-EDF2-46FC-8152-748AA170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C7602-24B8-4670-BA64-91F3A3B2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B7D71-6D0B-44C0-9CEE-D196D4C1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9976B-57EE-4024-9E23-9B538D97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9DF98-DB11-41D6-8EC5-07B80E74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6996E-C731-4789-BA9B-023B0FEF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79FA6-534B-4C63-8CAC-57FA545B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492C8-186A-4D40-8EB9-56B6115B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0E4A-AF0F-4118-9AD5-FFE47D53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1C77C-BCC7-4A38-8E53-0B4E21BC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CAE24-4A6C-4030-A5FC-768341B1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4FEBD-E27A-4B15-8DBF-5ADAE329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CD24A-8170-44E9-9D7B-22CA63D5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371C0E-FFA7-4326-BA68-530866CB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BB278-78F1-47E1-BBDF-E74EDF51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35368-3524-46C8-90BD-9133AF40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07331-D91C-4664-BC73-5F49AC76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28FF6-5B30-48C0-AECD-6938920A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2E684-643F-46BA-8CA5-C98AF711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72CD-CD2E-4B6A-979F-C25F5826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6F989-BD54-4699-80DE-BE27FE95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3549E-5D3B-4AAD-B342-D91EE6CE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47995-13A9-4DDD-94B0-7C4381EB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B89B4-876C-4F27-A52F-CE4C00A6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E49F2-37E9-4231-B9D9-E1000A63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74110-7915-4305-913E-217D3961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2ECE0-2266-4A54-871A-E2D441D1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FF031-7684-4CCE-BD10-5248BBE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B4641-FA38-49BD-9DF8-45AFE1EB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6DE434-8450-4817-9A58-7DDEED75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77D0-67CA-40E6-A1A3-5F0B94A9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CF840-BD4C-4F48-B3B7-331A6914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5E182-56A5-4107-977B-E303E881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94D85-0042-4530-9F56-2351E4B2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E43CB-D301-442C-87F7-B07B84B4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210EF-032A-4B75-AD9D-AF5A00E2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D6431-7FC2-4381-AB15-72A62F43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CFC16-D935-4995-A031-D2EDB029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C5CB2-E18C-4A60-A811-C547FD0F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3ADFE-D629-4CEF-AA66-4FDE9E31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5F27F-CFDD-4E74-BA6F-95471690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F45-3E35-4278-8B24-EBA49985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2FF4-96B3-43C9-9FCD-3E29D927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5BE576-9641-4408-A267-F52E585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8E9EA-B79D-4DEE-86B0-F8186E75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C1911-3E53-47C6-BF90-BEDF3267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6DB23-A20C-425D-8134-39A08FEB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87DAF-11EA-4D8E-9766-76C6BADB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736B3-2294-46FB-8283-0EDDDBED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816F7-4DA2-47D2-A432-4FAFD74B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348813-F2D4-4E11-81DF-91E2B84C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AC803-FD3B-4AE7-88AA-3C0FB252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3E72E-BD9C-47D7-8E12-52E3416C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AA13-36B5-4A41-A40D-2EE994D4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61E631-81DA-4C41-BF73-DFE035AE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961397-9C9E-43DD-A378-0BCBBF74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36A483-F1ED-4817-9478-2F24B903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585B4-F316-4222-B4C4-9C166B9E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5A085-1DCA-461E-B89C-4EC3B5CC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028C8-9870-462C-A577-7DD5C110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25CFA-B3A5-48F6-A75D-20448CF7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B224B-0434-4F75-938D-6EE269CF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157042-5884-4380-BC3A-03200EB2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A840D-5725-4BB7-A6B9-8FE367B1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D136-8A02-43C2-B0A3-7C438FDA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433FC3-BAF5-4F18-9A10-7A09A5BD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289EC7-9ABF-4F05-BE99-C3217645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3B34C-89AB-4FCD-8613-B4D88A3F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A5E90-40DC-46C4-9BBE-73FC6799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D372BE-9E8F-49F0-8E7E-9A426F9C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3DEB04-44EE-4E4D-867C-E9BF7F54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3B49E3-9EC1-4B2C-BE47-DA761A72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698FA-34D2-483F-A9B8-B05D8C56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76A24D-DA92-45B6-97CC-6C394AB7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2CCCAB-579C-453D-9A70-1B016AFE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D31F-837B-4DFA-88A4-CB7DE9C0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F44E56-365A-49E8-83CE-AA793C72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1D511B-1E09-4A57-8EF1-33CD4C24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ECF972-8E6E-4AC2-8A87-D7B28D9F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4402B4-BB20-40CA-999E-5730E301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63325C-3EED-4E2F-9D35-CFEFEE17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1D7616-2539-4345-B457-AB3E7E01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90FBF-CFEF-47C1-9E35-CC94222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8CA58-CB3F-4B84-B10F-5216076B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941D4-D0F5-4D8B-A49C-B9522CC4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A37FCD-1922-4BA9-83C0-9D550337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B78A-1A66-459B-A18E-EC5EE61E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41A24B-03CF-4825-9D25-43817DB6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4A7EE-F879-4357-B700-DA72BACB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C18A0D-A6C7-48FD-8C2D-785933BD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EC8B0-298F-4CAB-BA22-75EF27F2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3A470D-8007-4AC9-9AEC-9E34878B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8D49BB-C2BC-4EA2-AE2D-A62D2634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DA1313-ED46-413D-8956-E158A563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02F2E3-F224-4F2F-885B-D88CFE6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812E8C-F744-42E2-8390-60F6881B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4ADBD-592C-4B55-BDD4-78E0CF5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912E-A97E-4D51-9708-C04CE1D2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CD099E-1BD4-4470-8DB9-18FC29B7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A396B2-69A1-4546-BFA1-AD965F52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3EEEAE-357B-427A-95B2-B07EE7E5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68F6E7-8B34-4010-81C1-7D56CC90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6E269-3A2A-4179-9F14-773A4C72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76E3FF-9885-4D9E-A27E-E934DA4C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152AE5-0520-4C46-AA48-AE01A642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671B7E-D3FC-4DEA-8C00-99307C17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05E998-3AF3-49C5-87DE-51979A50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029391-A6DB-4510-A185-4A91EFD5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C05D-180A-4134-9348-680FF0E7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D2F0E6-FC62-4EA2-8ED1-1BEAF3CC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14C2DA-1145-41B0-96F6-0189290E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064202-A07A-44C1-9FF3-7F11F9D0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D6BC68-456C-4F42-8FA6-20D34782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149F74-1850-4D30-A9DB-79E537D0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ED46D7-72B7-4800-B1C9-CE2A6799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D983FC-9E18-409D-8AE2-E695ED8C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DB3759-C5A8-4C3E-89B2-B239B958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FFF018-F92A-48ED-A3FD-62CE469E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F966EE-567B-451B-8FCB-5ADC8412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F107-8064-484D-8C19-52AA78CF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046E28-DB8D-484B-B632-E7185595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7C173D-01C3-49D3-B13F-472A354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A7E341-8387-4CE5-8543-AF5E31C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86D8C3-73C8-422A-AE75-265D9C25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96E20F-0ED6-4415-A20C-69D210CD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FB1EBF-9BBE-4303-8058-AD560A64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1F8732-D4CF-48B2-9F43-3A55CD40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61C4-7F17-4C94-BCC9-B6A910D0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18B21-5A28-46AC-B972-07965526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3BE-3B32-43C4-B848-C717EF94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15B0-A41E-4023-96F3-22993EBC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56DD-BFD9-44CB-937C-5C0E81DC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02AE-08E5-4C5F-80C7-A035CA64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5536-B73B-46CE-8450-0147190A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DFB3-20B9-443B-8FD0-580ED002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AF27-B231-460F-8881-92CB465A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DD64-5B0F-4A72-B2A2-F67208EE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5647B-47AD-48FB-9A5C-F0455B4F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A4E47-CD64-42FF-B783-8FB61C12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B2D98-4490-4163-8C6F-B497104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736-376D-4A19-AEFA-C09A38BA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06EA-3DDA-44CB-A852-BF6CD873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953A-DEB0-4077-A2EF-4385AE30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EBC3-CAEC-4B0F-A81A-2D7F5044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B7EB-085D-490D-8EF5-598C477E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14DC-646A-4134-8D1B-3C8955B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2DEF0-AF1C-45DF-B73D-F3966CC7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83812-7797-459B-9CA8-F1701577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6D072-CE55-4FCF-917A-11D38DAF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E1D9C-B1F8-4FA1-A282-9245F140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2D59-1403-48B0-B7D1-E04FC794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8F4-F2D4-4553-816B-2A4905EB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700A8-421B-4DA7-AE55-D0F28143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0ADFB-1E69-486E-8D41-901A1813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8804C-194E-4A87-84C0-B3852F2F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01A8C-BEF0-48BA-B3F4-4EBE818F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653CA-235C-4C3B-923C-BFE0C844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0F89-B5B0-417C-BC37-5DF58EB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607A9-B99F-43B4-A4E5-5F123984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6DCD8-156A-4828-8D7B-F799A25F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AEF76-ACB4-41BC-A1C9-1864F7FE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BE4DA-E93F-451E-8F71-F608F501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111-2E95-40F3-9403-B4530CDD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11F04-DF99-4250-B936-1F1CE1FE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E5715-DDE0-4A3A-BC96-C019F712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CFF1A-3EA5-4450-9949-E82E7826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05979-AC7E-48FC-908F-A7EBECAF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DCE5-95FD-46C6-9329-CDD149EF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20F0F-E8FB-4F9B-B2CF-B581B0A5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36500-37FB-4737-97BF-F95769A4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8BE38-9D7C-436C-86B3-77D3336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AC648-70D6-40C0-99D8-3E6C063E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47C7E-BD50-4293-99AA-92773002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D51-3BDC-4B05-AB47-A2B0E9D7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A4C2D-FD11-4372-BA14-44FC3C82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74CB1-02D1-4BA7-80BE-01C4D6E1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D8FBF-0750-40F4-B0C0-BCEE821A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BCA1A-3604-48CB-9B23-010519C3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8ED18-D551-48B4-BC95-66F2589D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01145-8D83-4D14-858A-14F90ECA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A3933-DE69-44A4-A127-5ADF0C54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5554E-0233-4EFA-837F-8FF25A6E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EEF23-DFE3-4D9C-9130-96FC654D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64201-5DFE-40DE-917C-882C7455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277-4F8D-4DE5-B266-DAA29B62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BD544-1A9C-41AC-9CEE-7870D40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8D987-894A-4C8D-9DD8-1783251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4C9EA-4559-4E08-B9ED-FF9BDCFF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48462-CD98-4DA4-8193-878337FD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E99A5-1F26-4F88-9751-078443A5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3E8FC-E6C6-4426-9AAA-2ED38054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F41E3-77BE-4128-A8B3-F8E4FE6F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9E4C1-F466-485A-B07B-5AC42D6B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3D397-88FF-443D-899B-EE00D1D3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D281B-DC4C-45BD-8BF4-548D8D61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F6A-EBC6-4414-BF84-21A264F4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657DA-024F-4C58-B291-C5BA23C5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32013-DFEE-480F-93B9-750F772C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A2609-9369-4E5E-A70C-349D3D11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497AE-98A3-4189-B474-A027B667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60AF5-CEEA-4BF8-AD7E-5312DD48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8B4FA-1D9A-4D15-8BCB-C1DA3991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BE364-CB3B-4C7D-A8A9-D5B51008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DE07A-B110-4BEA-970A-6E4A03B0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FAD81-4C40-4AAB-9ECE-E41AE150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77F37-20DE-4469-AAC3-9C524F30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F86F-AD5C-4CAA-9F69-E85E47D6AA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C2F6-5AAF-4508-9E30-12B4FE689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CD23-DC92-4CDB-9F58-54AA9133C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2958-8CC6-4473-9CA4-31D6321981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70D7-48EF-4AB4-B1C5-3357092928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A8D1-3248-4CAC-A07C-592BF9070A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6BA-F096-4993-BBD6-3A13A00D49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1FA7-1932-4686-827F-36AF7C54E4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BD7A-652F-4524-BEFD-3BD93E337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69AC-4AC6-4558-AD01-49964CC26A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EF5D-4021-4B5A-B2F1-0ED864B072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B44F-225B-40D1-B996-2BA9BD81E8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11EE-32F8-4D81-866C-08282061C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9315-4AA0-4764-B926-F64FB63722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2121-578E-4865-93B2-C706B2F119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A372-4D41-43B0-936C-7E5DF3E478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2BE9-E022-4FF3-BAFB-4ABCCB7A18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EC71-133C-4D5B-BD37-F3C88297DB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85AD-68BD-447A-A2AD-B9B8612F80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895A-814F-4C4C-A4DB-32F03BFD0B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42C2-12C3-41C9-9C8E-A55CA6DB87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E214-F3E2-4395-9996-29AE5421D6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B856-8CD8-45FE-B9A7-57C6F8B0BE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549F-1191-420B-BC13-2F53D010DD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923D-2DE5-409B-8631-D7365C2A4D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F679-185A-464F-8BB4-0134C8C689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D4C2-6419-4011-AAE2-2EE2824F20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8465-0740-4090-A9F4-7364AACCE2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A645-B3DC-404A-9BF9-EFA92B45AB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FE57-F325-4B46-BC10-6388B86B5A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1A94-3662-4372-8EC0-21EB93CE8E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86F3-EDCD-4A26-9E53-2682892A14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EE9C-2913-47DD-8667-16A1BEA09C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997D-613E-4FD2-B1BC-A0023C7395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4A8D-58A3-4723-A01F-E34865D187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3B29-515C-41D3-BD8C-349889721F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2F44-1A98-4764-884C-CA854FFFF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2F7B-DF15-4C66-87A3-327398F931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B8CE-E677-4BD7-A816-978191AF15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DC9B-96CE-4864-824F-BAA40BD570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C802-A331-4E4C-9F4F-08A9DC3E16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3D3D-D3D0-4181-B425-318117BDF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54080" y="3019320"/>
            <a:ext cx="883440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480960" y="2571840"/>
            <a:ext cx="8180280" cy="17143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1" descr=""/>
          <p:cNvPicPr/>
          <p:nvPr/>
        </p:nvPicPr>
        <p:blipFill>
          <a:blip r:embed="rId1"/>
          <a:stretch/>
        </p:blipFill>
        <p:spPr>
          <a:xfrm>
            <a:off x="257040" y="1197000"/>
            <a:ext cx="8629920" cy="47530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2"/>
          <a:stretch/>
        </p:blipFill>
        <p:spPr>
          <a:xfrm>
            <a:off x="3635280" y="2046240"/>
            <a:ext cx="2737080" cy="4064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3"/>
          <a:stretch/>
        </p:blipFill>
        <p:spPr>
          <a:xfrm>
            <a:off x="6084720" y="3328920"/>
            <a:ext cx="1727280" cy="40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4"/>
          <a:stretch/>
        </p:blipFill>
        <p:spPr>
          <a:xfrm>
            <a:off x="3564000" y="3760920"/>
            <a:ext cx="2087640" cy="4064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5"/>
          <a:stretch/>
        </p:blipFill>
        <p:spPr>
          <a:xfrm>
            <a:off x="826920" y="4192560"/>
            <a:ext cx="1729080" cy="4064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6"/>
          <a:stretch/>
        </p:blipFill>
        <p:spPr>
          <a:xfrm>
            <a:off x="2195640" y="5056200"/>
            <a:ext cx="1728720" cy="4064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7"/>
          <a:stretch/>
        </p:blipFill>
        <p:spPr>
          <a:xfrm>
            <a:off x="5364000" y="5502240"/>
            <a:ext cx="2664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图片 1" descr=""/>
          <p:cNvPicPr/>
          <p:nvPr/>
        </p:nvPicPr>
        <p:blipFill>
          <a:blip r:embed="rId1"/>
          <a:stretch/>
        </p:blipFill>
        <p:spPr>
          <a:xfrm>
            <a:off x="223920" y="1038240"/>
            <a:ext cx="8694720" cy="478152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2"/>
          <a:stretch/>
        </p:blipFill>
        <p:spPr>
          <a:xfrm>
            <a:off x="1403280" y="1455840"/>
            <a:ext cx="1513080" cy="40644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3"/>
          <a:stretch/>
        </p:blipFill>
        <p:spPr>
          <a:xfrm>
            <a:off x="5076720" y="1441440"/>
            <a:ext cx="1224000" cy="4064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4"/>
          <a:stretch/>
        </p:blipFill>
        <p:spPr>
          <a:xfrm>
            <a:off x="5435640" y="1916280"/>
            <a:ext cx="1224000" cy="37764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5"/>
          <a:stretch/>
        </p:blipFill>
        <p:spPr>
          <a:xfrm>
            <a:off x="6804000" y="2349360"/>
            <a:ext cx="1224000" cy="3762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6"/>
          <a:stretch/>
        </p:blipFill>
        <p:spPr>
          <a:xfrm>
            <a:off x="1619280" y="3182760"/>
            <a:ext cx="194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66680" y="1047600"/>
            <a:ext cx="8809200" cy="47628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698400" y="145584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502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195120" y="1076400"/>
            <a:ext cx="8751960" cy="47052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539640" y="407664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166680" y="1285920"/>
            <a:ext cx="8809200" cy="42861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720720" cy="4064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2987640" y="2563920"/>
            <a:ext cx="720720" cy="40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7667640" y="3429000"/>
            <a:ext cx="72072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3492360" y="3860640"/>
            <a:ext cx="129564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5292720" y="4724280"/>
            <a:ext cx="1295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90440" y="1290600"/>
            <a:ext cx="8763120" cy="42768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1835280" y="210348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7596360" y="211932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6084720" y="3832200"/>
            <a:ext cx="259092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4356000" y="512928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6516720" y="5129280"/>
            <a:ext cx="10796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37960" y="2138400"/>
            <a:ext cx="8668080" cy="25812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1908000" y="2535120"/>
            <a:ext cx="2592720" cy="4064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900000" y="3832200"/>
            <a:ext cx="935280" cy="406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7093080" y="3832200"/>
            <a:ext cx="934920" cy="4064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900000" y="4278240"/>
            <a:ext cx="1150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15920" y="928800"/>
            <a:ext cx="8713800" cy="3036600"/>
          </a:xfrm>
          <a:prstGeom prst="rect">
            <a:avLst/>
          </a:prstGeom>
          <a:ln w="0">
            <a:noFill/>
          </a:ln>
        </p:spPr>
      </p:pic>
      <p:pic>
        <p:nvPicPr>
          <p:cNvPr id="1132" name="图片 2" descr=""/>
          <p:cNvPicPr/>
          <p:nvPr/>
        </p:nvPicPr>
        <p:blipFill>
          <a:blip r:embed="rId2"/>
          <a:stretch/>
        </p:blipFill>
        <p:spPr>
          <a:xfrm>
            <a:off x="115920" y="3965400"/>
            <a:ext cx="53798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104760" y="863640"/>
            <a:ext cx="8934480" cy="55720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2"/>
          <a:stretch/>
        </p:blipFill>
        <p:spPr>
          <a:xfrm>
            <a:off x="539640" y="509904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1" descr=""/>
          <p:cNvPicPr/>
          <p:nvPr/>
        </p:nvPicPr>
        <p:blipFill>
          <a:blip r:embed="rId1"/>
          <a:stretch/>
        </p:blipFill>
        <p:spPr>
          <a:xfrm>
            <a:off x="138240" y="843120"/>
            <a:ext cx="8866080" cy="51717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7:4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